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E04E-7CC1-4C17-B9AE-77F4A480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39D-A904-4E80-B3F4-D0AA4D37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8A4-6EAC-4659-B986-BA90C7FC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EA5-C821-401A-89A7-F0CA297C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268-69FB-43C0-B6DA-5D8C55F0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1B7-B2A8-44C8-B782-360D6FFD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A4E-1CD6-459E-AF61-69236ED1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1315-CD9B-45D7-84D7-82CDCF29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C47-CA46-45D3-A21D-54E1421B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B4B-AD45-4094-8439-51FE4CA5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4C3-474A-4ED0-8514-EDB51FA5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8A1-A1A2-4426-9D23-A53D849A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FCF9-5234-48FB-8267-A53372FFFED5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HE_RD_skill_strategy_jan06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Minion"/>
              </a:rPr>
              <a:t>PHE RD Skill Strateg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. Bocio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PHE 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1, 22.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67A-F34F-4DF0-AADD-E9D085EB6D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43280" y="2349360"/>
            <a:ext cx="5905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sign &amp;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e &amp; custom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ptimize &amp; maint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3214800"/>
            <a:ext cx="5905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fine integration strategy, derive coniguration set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nable daily bui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toamate config &amp; bui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4079880"/>
            <a:ext cx="5905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ptimize test case definition and collaboration with CPM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tomate testing, optimize/maximize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crease defect resolution cycle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4944960"/>
            <a:ext cx="5905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management (with TPM‘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act management &amp; supplier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isk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43280" y="5810400"/>
            <a:ext cx="5905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support and toolk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ools introduction, methodology and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inuous educ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1484280"/>
            <a:ext cx="5905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fine, evaluate, prototype, re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reeze, train &amp; roll-out (methodology, API‘s, toolkits, wizar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ntor, support, control standard u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a0e66"/>
                </a:solidFill>
                <a:latin typeface="Minion"/>
              </a:rPr>
              <a:t>PHE RD Skillset Decomposition: Think BiC* !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539640" y="1125360"/>
            <a:ext cx="20163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est-in-Class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1700280"/>
            <a:ext cx="20178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2590920"/>
            <a:ext cx="2016000" cy="52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Software (HW, M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481560"/>
            <a:ext cx="20160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4371840"/>
            <a:ext cx="20160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System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5262480"/>
            <a:ext cx="20160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6153120"/>
            <a:ext cx="20160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41240" y="105264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*BiC = Best-in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145908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62881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5445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50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3645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2781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1844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C0C-B9AA-413B-95B3-91035294D1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907920"/>
            <a:ext cx="4176720" cy="5172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, Contract, Partner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720" y="1052640"/>
            <a:ext cx="4032360" cy="46346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7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HE RD Software Skill Needs Aligned to Product Layer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900000" y="112536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Definition &amp; Us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1655640"/>
            <a:ext cx="338472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Customization &amp; Wiz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2060640"/>
            <a:ext cx="338472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Programming &amp;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3789360"/>
            <a:ext cx="3384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graming Support, Wizards,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4175280"/>
            <a:ext cx="3384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ograming API‘s, middleware, 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456264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level, stacks &amp; protoc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496728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&amp; device layer, 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675360" y="3636000"/>
            <a:ext cx="280836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,Frameworks,Com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2492280"/>
            <a:ext cx="1081080" cy="15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alue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av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2720" y="2492280"/>
            <a:ext cx="108108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M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dio,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ideo,DV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2492280"/>
            <a:ext cx="107964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ic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ffice 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-6480" y="1600200"/>
            <a:ext cx="125748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981000"/>
            <a:ext cx="3960720" cy="1535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Core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cannot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be outsourced or off-sho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lustered in very few locations (MUC, KLF: platform rela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st be brilliant people; can be expens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2473200"/>
            <a:ext cx="3960720" cy="247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Basic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 solid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x of experienced staff and new university h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n be balanced between hi-lo cost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hould be organized in clusters of compet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xternal support staff for special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4292640"/>
            <a:ext cx="3960720" cy="179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Support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 solid own basis on each CoC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0% for software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0% staff can be lo-cost, lo(wer) sk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% - 30% external resources for peak sit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3357720"/>
            <a:ext cx="22320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elephony, audio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9C7-C566-47B5-B1F9-72E6D5D9C1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6227640" y="1125360"/>
            <a:ext cx="2160720" cy="18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298920" y="1125360"/>
            <a:ext cx="2160360" cy="18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E RD Offshore Possibiliti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 flipV="1">
            <a:off x="1403280" y="979560"/>
            <a:ext cx="0" cy="496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594828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1268280"/>
            <a:ext cx="2376360" cy="4199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08360" y="980640"/>
            <a:ext cx="0" cy="496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838680" y="1197000"/>
            <a:ext cx="3830400" cy="4248000"/>
            <a:chOff x="3838680" y="1197000"/>
            <a:chExt cx="3830400" cy="4248000"/>
          </a:xfrm>
        </p:grpSpPr>
        <p:sp>
          <p:nvSpPr>
            <p:cNvPr id="97" name=""/>
            <p:cNvSpPr/>
            <p:nvPr/>
          </p:nvSpPr>
          <p:spPr>
            <a:xfrm>
              <a:off x="3924360" y="1197000"/>
              <a:ext cx="3744720" cy="4248000"/>
            </a:xfrm>
            <a:prstGeom prst="rtTriangl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8680" y="5432400"/>
              <a:ext cx="38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3995640" y="1268280"/>
              <a:ext cx="3672000" cy="41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403280" y="313992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32640" y="597204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84720" y="980640"/>
            <a:ext cx="0" cy="496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64440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los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7320" y="20131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800" y="41590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31760" y="59421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36640" y="5942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11480" y="594216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5111640"/>
            <a:ext cx="2376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Definition &amp; Us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4076640"/>
            <a:ext cx="338436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graming Support, Wizards,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3213000"/>
            <a:ext cx="1511280" cy="9464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ograming API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ddle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3498840"/>
            <a:ext cx="144000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level, 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protoc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2924280"/>
            <a:ext cx="15112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&amp; 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27640" y="4467240"/>
            <a:ext cx="223200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rameworks, Compon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0360" y="5516640"/>
            <a:ext cx="2952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&amp; Contract &amp; Partner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981000"/>
            <a:ext cx="2160720" cy="52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Customization &amp; Wiz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48000" y="1773360"/>
            <a:ext cx="158436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Programming &amp;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5280" y="1773360"/>
            <a:ext cx="1081080" cy="137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alue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av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2565360"/>
            <a:ext cx="108108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M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dio,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VB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3716280"/>
            <a:ext cx="107964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ic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ffice 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ls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1197000"/>
            <a:ext cx="125748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05F-3B4B-4789-B4F7-F22D8C0142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E RD Offshore Strategy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522360" y="660600"/>
            <a:ext cx="2178000" cy="2912400"/>
            <a:chOff x="522360" y="660600"/>
            <a:chExt cx="2178000" cy="2912400"/>
          </a:xfrm>
        </p:grpSpPr>
        <p:sp>
          <p:nvSpPr>
            <p:cNvPr id="125" name=""/>
            <p:cNvSpPr/>
            <p:nvPr/>
          </p:nvSpPr>
          <p:spPr>
            <a:xfrm>
              <a:off x="539640" y="76968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640" y="13064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692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1600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98240" y="81900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307440" y="87552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641160" y="9698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640" y="15573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9640" y="1844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9640" y="2131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9640" y="24192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9640" y="27064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640" y="29970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9640" y="32875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44000" y="1268280"/>
            <a:ext cx="9853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va Ap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114720" y="660600"/>
            <a:ext cx="2178000" cy="2912400"/>
            <a:chOff x="3114720" y="660600"/>
            <a:chExt cx="2178000" cy="2912400"/>
          </a:xfrm>
        </p:grpSpPr>
        <p:sp>
          <p:nvSpPr>
            <p:cNvPr id="141" name=""/>
            <p:cNvSpPr/>
            <p:nvPr/>
          </p:nvSpPr>
          <p:spPr>
            <a:xfrm>
              <a:off x="3132000" y="76968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32000" y="13064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1964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0836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38680" y="8888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WRO f. KL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2899800" y="87552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3233520" y="9698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32000" y="15573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32000" y="1844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32000" y="2131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32000" y="24192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32000" y="27064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2000" y="29970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2000" y="32875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606120" y="1268280"/>
            <a:ext cx="173520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integration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5520" y="1268280"/>
            <a:ext cx="28296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81120" y="1268280"/>
            <a:ext cx="38484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707080" y="660600"/>
            <a:ext cx="2214000" cy="2912400"/>
            <a:chOff x="5707080" y="660600"/>
            <a:chExt cx="2214000" cy="2912400"/>
          </a:xfrm>
        </p:grpSpPr>
        <p:sp>
          <p:nvSpPr>
            <p:cNvPr id="159" name=""/>
            <p:cNvSpPr/>
            <p:nvPr/>
          </p:nvSpPr>
          <p:spPr>
            <a:xfrm>
              <a:off x="5724360" y="76968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24360" y="13064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1200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0072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28160" y="888840"/>
              <a:ext cx="149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WRO f. MU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5492160" y="87552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5825880" y="9698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15573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1844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24360" y="2131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24360" y="24192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24360" y="27064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24360" y="29970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24360" y="32875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198480" y="1268280"/>
            <a:ext cx="173520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integration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+ 65 extern (ne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09960" y="1268280"/>
            <a:ext cx="38484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22360" y="1268280"/>
            <a:ext cx="48708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3722760"/>
            <a:ext cx="2160720" cy="30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42591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408480" y="3722760"/>
            <a:ext cx="2880" cy="30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0440" y="3722760"/>
            <a:ext cx="0" cy="30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9200" y="3772080"/>
            <a:ext cx="10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    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2891880" y="382860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3225600" y="392292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451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47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508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537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56595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595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06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6440" y="3722760"/>
            <a:ext cx="2160720" cy="30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6440" y="42591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04080" y="3722760"/>
            <a:ext cx="0" cy="30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279840" y="3722760"/>
            <a:ext cx="12600" cy="30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29600" y="3772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5484240" y="382860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5817960" y="392292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6440" y="451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6440" y="47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6440" y="508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6440" y="537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6440" y="56595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6440" y="595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6440" y="62406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22360" y="3613320"/>
            <a:ext cx="2178000" cy="2912400"/>
            <a:chOff x="522360" y="3613320"/>
            <a:chExt cx="2178000" cy="2912400"/>
          </a:xfrm>
        </p:grpSpPr>
        <p:sp>
          <p:nvSpPr>
            <p:cNvPr id="205" name=""/>
            <p:cNvSpPr/>
            <p:nvPr/>
          </p:nvSpPr>
          <p:spPr>
            <a:xfrm>
              <a:off x="539640" y="372240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9640" y="42591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7280" y="372240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16000" y="372240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0520" y="377172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   </a:t>
              </a:r>
              <a:r>
                <a:rPr b="0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YS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307440" y="382824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641160" y="392256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9640" y="45100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9640" y="47973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9640" y="5084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9640" y="5371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9640" y="56592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9640" y="59497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9640" y="62402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82080" y="4221000"/>
            <a:ext cx="13312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LF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LF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C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C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WRO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WRO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O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97120" y="4251240"/>
            <a:ext cx="18752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act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integration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s. Spec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2520" y="1268280"/>
            <a:ext cx="384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03200" y="4292640"/>
            <a:ext cx="3848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66720" y="4286160"/>
            <a:ext cx="3848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cc33"/>
                </a:solidFill>
                <a:latin typeface="Minion"/>
                <a:ea typeface="文鼎中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cc33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cc33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652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652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0560" y="4221000"/>
            <a:ext cx="38484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84080" y="4221000"/>
            <a:ext cx="38484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16400" y="4254480"/>
            <a:ext cx="18752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act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integration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s. Spec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0E8E-511D-4ABF-ABA1-BA61590776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PHE RD: Hiring Tactic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In MUC, KLF, WRO, MAO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Internal bonus for everyone bringing a good hire (1/2 monthly pay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Condition: new hire must still be employed 7 months after hiring da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General skill transition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Increase number of staff with informatics degrees (vs. Engineering degree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Besides online advertising (e.g. Monster), utilize classic media like VDI Nachrichten, ct, othe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Immediate Focu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Hire </a:t>
            </a:r>
            <a:r>
              <a:rPr b="0" lang="de-DE" sz="2000" spc="-1" strike="noStrike" u="sng">
                <a:solidFill>
                  <a:srgbClr val="3a0e66"/>
                </a:solidFill>
                <a:uFillTx/>
                <a:latin typeface="Minion"/>
              </a:rPr>
              <a:t>xxx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 architects, </a:t>
            </a:r>
            <a:r>
              <a:rPr b="0" lang="de-DE" sz="2000" spc="-1" strike="noStrike" u="sng">
                <a:solidFill>
                  <a:srgbClr val="3a0e66"/>
                </a:solidFill>
                <a:uFillTx/>
                <a:latin typeface="Minion"/>
              </a:rPr>
              <a:t>yyy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 project mgrs,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Win back into RD key people from CM organization and other places that aren‘t directly contributing to the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237-8C4B-4E43-A13A-E240CA94F4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iegfried Bocionek</cp:lastModifiedBy>
  <dcterms:modified xsi:type="dcterms:W3CDTF">2006-01-24T11:17:51Z</dcterms:modified>
  <cp:revision>92</cp:revision>
  <dc:subject/>
  <dc:title>PowerPoint 簡報</dc:title>
</cp:coreProperties>
</file>